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4DD7-6AAD-4D9E-B8A2-DB7228F0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B33C-E87E-42B1-9368-F3218C6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496E7-8AB9-4AE7-ADEA-7720370D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1B32-4828-415E-95DF-430BBA14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777-7511-457A-AB01-16B5923F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64A-E983-4A52-BCEF-F4F6BE2E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CD6-A9BE-48F1-AA33-5D8BBFA9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0D21-254C-41AC-98F9-8D11C7AD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B69-BBA4-47F5-9527-DBA6FC32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03F9-DC8C-4366-9E73-DA4EBFD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003E-130F-4D5C-938E-692FCC0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1A32-3DCE-4A28-9E42-679B481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562F-9023-4B7E-A60E-CC53A84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CC6-5DB5-4152-A77A-85407E1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F5D-C9AE-4D6C-822B-3A7AA4B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1FC5-09D8-4468-8B25-3622A897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8D5A-309E-4D1B-B481-7E356213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66D4-0CCF-4B9A-A94E-43B522E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DF77-EDC3-47C8-8D75-AB28FFF4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9747-72CC-4DFA-9288-95794CB7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B5E2-CEFA-469B-A874-12409A09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BBF0-188B-4947-9444-F2C1B1CA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F539-0B10-4320-B314-6DF76AA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95BC-ABC1-428D-BA27-A807C0F9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1FC-8D49-44A7-9603-3CC7F4DD2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C73-5C94-4375-9A13-683AF2F43C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Segoe Print"/>
              </a:rPr>
              <a:t>The Pardoner’s Tal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2057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ype of Story:  Moral T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ype of Iron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Print"/>
              </a:rPr>
              <a:t>Situational – The rioters seek death, and they end up killing each other.  The Pardoner preaches against greed, but he is greedy himsel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Print"/>
              </a:rPr>
              <a:t>Dramatic – We know what the rioters plan, but they do not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Personification:  Death, Fortu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Symbolism:  Old man = death; money = gr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Irony: Lines 176-177  “Who would have thought this morning was to be our lucky day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Satire:  People claim to be religious, but they often use their positions to take advantage of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Message/Theme:  Greed often leads to downfall and destru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Cliché:  The love of money is the root of all evi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Print"/>
              </a:rPr>
              <a:t>The Pardoner’s personality:  Greedy, manipulative, hypocrit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6:02:30Z</dcterms:created>
  <dc:creator>Trina</dc:creator>
  <dc:description/>
  <dc:language>en-US</dc:language>
  <cp:lastModifiedBy>Trina</cp:lastModifiedBy>
  <dcterms:modified xsi:type="dcterms:W3CDTF">2008-09-22T16:13:49Z</dcterms:modified>
  <cp:revision>2</cp:revision>
  <dc:subject/>
  <dc:title>The Pardoner’s Tale</dc:title>
</cp:coreProperties>
</file>